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77246"/>
        <c:axId val="44139626"/>
      </c:barChart>
      <c:catAx>
        <c:axId val="24577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39626"/>
        <c:crosses val="autoZero"/>
        <c:auto val="1"/>
        <c:lblAlgn val="ctr"/>
        <c:lblOffset val="100"/>
        <c:noMultiLvlLbl val="0"/>
      </c:catAx>
      <c:valAx>
        <c:axId val="44139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77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D57-3F42-488F-BA04-952887D2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B6C-C696-4546-97E5-204FC853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FD8-1580-4BBA-8974-1D15BAE4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D00-DB92-4571-8B6A-F3432A12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486-21E1-44A1-94E4-599F08E6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D72-FEC1-4383-A456-7583D7E1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192-A944-4F30-85ED-6120A95D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592-437E-4E5B-88AD-CBA49617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0F2-3A7E-4327-B3F7-93A57643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91EC-D608-4F03-B52D-EB08F5FB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C128-BD99-4197-9497-B96D7FC9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294-9321-4C0D-B8AD-F10A6EE9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FB177-D888-4056-8E29-0D8AF4F3B1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