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31604"/>
        <c:axId val="90955884"/>
      </c:barChart>
      <c:catAx>
        <c:axId val="69131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55884"/>
        <c:crosses val="autoZero"/>
        <c:auto val="1"/>
        <c:lblAlgn val="ctr"/>
        <c:lblOffset val="100"/>
        <c:noMultiLvlLbl val="0"/>
      </c:catAx>
      <c:valAx>
        <c:axId val="90955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1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A4D-6BD5-45BF-B025-D4D262C1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730-931F-4D39-BAD0-BA1EF483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1CF-873E-4E63-B89A-01A1D2F6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D24-B0A6-4960-AF12-CB446D99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59B-076F-430F-A7EF-144DC07F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651-9A72-4866-9C25-F237BDE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67B-6E81-440D-9AAC-759871D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E56-0400-43C2-A52D-079F559C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AAE-FE3E-4B94-B012-C5CF040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E48-AB55-4C7B-AE70-9685323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037-AABB-4C02-A41C-064E15A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3DD-ED26-4A39-BD14-3BBDA71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FF988-870B-4D01-8724-66DB66E56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