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12549"/>
        <c:axId val="32238943"/>
      </c:barChart>
      <c:catAx>
        <c:axId val="64512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38943"/>
        <c:crosses val="autoZero"/>
        <c:auto val="1"/>
        <c:lblAlgn val="ctr"/>
        <c:lblOffset val="100"/>
        <c:noMultiLvlLbl val="0"/>
      </c:catAx>
      <c:valAx>
        <c:axId val="32238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12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2A0-8682-4F50-809B-F465211C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981-4448-4D50-B967-FFE51170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C91-C996-4B13-BB8E-595EF2C7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ED1-EB1E-44F2-9FEB-A4AD114D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7CF-B4B9-4330-8937-4C4B8906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D14-39F3-4E55-9A96-27EF1498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B4F-9F7B-448F-A31B-C51F240A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0C0-C15E-4CB6-9C88-4288562E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750-9B54-4B7A-B0B6-37380F2D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C93-2BB4-4F2E-A263-983B09C8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018-DC3B-41E4-8F9E-2C2781C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FBA-07FA-4572-8829-8C3CE83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20625-0E28-4746-B23B-C8F5F72A47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