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72206"/>
        <c:axId val="48485520"/>
      </c:barChart>
      <c:catAx>
        <c:axId val="1197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85520"/>
        <c:crosses val="autoZero"/>
        <c:auto val="1"/>
        <c:lblAlgn val="ctr"/>
        <c:lblOffset val="100"/>
        <c:noMultiLvlLbl val="0"/>
      </c:catAx>
      <c:valAx>
        <c:axId val="48485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FA5-DA0B-4D42-8AF8-DFA7968E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A89-79FC-455C-8A45-A7FC9FE8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758-ADF6-4268-9986-B9F16C19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A5C-728D-4E09-8BC6-5EC87E15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571-2F8E-4A4F-A27E-80A08C2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30F-2E20-4038-86EB-1DA7967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80A-3E4F-49A5-BB97-68B9B5E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784-2C27-4CA7-BDD0-174D8F9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3E7-7106-43EE-BA22-DE89570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94D-64DF-4C8A-9929-BAE764F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EA0-E818-48EB-93DE-699F173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B85-C0A2-4638-A9DF-C0A043F2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791B5-4F4A-44FD-BEBE-6B2ED29C7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