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271122"/>
        <c:axId val="42808443"/>
      </c:barChart>
      <c:catAx>
        <c:axId val="612711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808443"/>
        <c:crosses val="autoZero"/>
        <c:auto val="1"/>
        <c:lblAlgn val="ctr"/>
        <c:lblOffset val="100"/>
        <c:noMultiLvlLbl val="0"/>
      </c:catAx>
      <c:valAx>
        <c:axId val="428084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711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D38E-A561-4D35-982C-587A04073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E332-974A-4EEF-8FD8-272E196E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65D5-73DA-4482-B50A-4543701E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15D5-E5F6-433C-90EA-6CFB3D80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4FDF-32A8-4623-9F04-E68B3915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24DB-715C-40BE-8A36-4C327092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9083-1C6C-42C9-9443-A2BDF102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98DA-FB89-424A-B423-60F75937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E8A6-96A4-43F6-AA6F-ECC5986A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B8F7-6022-4069-B0D8-D3F95CDF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7A61-721B-404F-8DB1-C398CE7A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2CC5-7E80-4745-A7E0-E006DCD7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4B1F1-009F-4354-80AC-4DC5ECDA0B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