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605449"/>
        <c:axId val="90347076"/>
      </c:barChart>
      <c:catAx>
        <c:axId val="626054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47076"/>
        <c:crosses val="autoZero"/>
        <c:auto val="1"/>
        <c:lblAlgn val="ctr"/>
        <c:lblOffset val="100"/>
        <c:noMultiLvlLbl val="0"/>
      </c:catAx>
      <c:valAx>
        <c:axId val="903470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6054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6BFD-EAF3-4873-BC6F-23777335C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A817-DD05-40E5-91B1-9D3A49ED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110B-339B-4607-9C61-936B2717D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E889-7E7C-4078-B8C0-43D9DB4B2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357C-889E-40BB-BC1A-EDECC53D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FE41-9A85-4817-9B04-08091758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7BEF-620E-4AC3-9D52-C4161AC5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1ED0-FE25-43D9-B993-6E3FB6FD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C709-E017-4CDC-A33D-7205A71D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31F4-65FB-497A-9EB9-7F9AB037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A4B9-F3A9-4648-9E5A-785178A7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A760-6556-400B-A773-ADA413B2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ACE7D-078C-4867-B267-36D0F1372A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