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815273"/>
        <c:axId val="4353810"/>
      </c:barChart>
      <c:catAx>
        <c:axId val="888152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3810"/>
        <c:crosses val="autoZero"/>
        <c:auto val="1"/>
        <c:lblAlgn val="ctr"/>
        <c:lblOffset val="100"/>
        <c:noMultiLvlLbl val="0"/>
      </c:catAx>
      <c:valAx>
        <c:axId val="43538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152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92DB-D666-4704-9EAC-1FF825B3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636F-C207-46B8-A0CF-7A097DB4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9CA9-8FCB-477C-8994-B6C6D72C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D797-FCF4-4507-9056-AD747BF5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082F-A098-4439-8046-011B7074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59A5-A008-44BB-BA3D-163227AA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253B-7134-40D4-86F9-67D7B962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1BD5-EAFD-4859-9906-7F305E2B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5EE0-89AB-4392-8F94-CFEE2FA7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C28F-F9E3-4772-AFA5-DAFF6339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611F-855A-46C5-AE78-5FB399C2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14C3-05BD-4355-A053-B8C992C1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B0A32-1C3D-4B24-A201-6D572E7CA6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