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36901"/>
        <c:axId val="11646248"/>
      </c:barChart>
      <c:catAx>
        <c:axId val="44436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46248"/>
        <c:crosses val="autoZero"/>
        <c:auto val="1"/>
        <c:lblAlgn val="ctr"/>
        <c:lblOffset val="100"/>
        <c:noMultiLvlLbl val="0"/>
      </c:catAx>
      <c:valAx>
        <c:axId val="11646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36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A86-8B26-4944-BAF0-B67E4E83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A55-E101-405D-91E1-69592F1C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A4F-8B6A-4E2E-86D0-EF085127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7CA-0ADF-4F04-A0E2-6340CAC9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A4D-85B2-4179-B80C-B3973033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2BD-BA25-4AE1-A6A1-441BE49F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E97-9881-447E-B654-A44C4AF6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C52-FB0B-40BE-B805-89F2D5B9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CE5-56C2-4932-9467-DDF6C70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157-E4A0-4248-98EE-03896FE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959-97BE-4C52-A307-815C9F2A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3D9-8183-4281-9E21-E8B895FF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77BA2-930C-4D0E-BCF1-C2536A88C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