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16404"/>
        <c:axId val="88982148"/>
      </c:barChart>
      <c:catAx>
        <c:axId val="62516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82148"/>
        <c:crosses val="autoZero"/>
        <c:auto val="1"/>
        <c:lblAlgn val="ctr"/>
        <c:lblOffset val="100"/>
        <c:noMultiLvlLbl val="0"/>
      </c:catAx>
      <c:valAx>
        <c:axId val="88982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16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703-EBFF-4789-83E6-14DFA19A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623-1975-4422-A9E6-2257FAE5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401-3ADF-4C00-9C3C-84A453B8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E0F-096D-4751-A968-092E3528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D10-34E9-48DF-A10F-F61CA4A9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EB9-5801-4CED-88BA-2B3542CE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EB1C-DEAB-4166-9AC2-0D737398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8A9-B01A-43DE-A846-FCDA2384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83D-599C-4E19-AF6A-B8F1F3F3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3D0-A73F-4597-B436-C60A2F45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A60-E98B-455A-B1A8-7885BEB1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E85-184F-4EA1-922E-DC32EBE2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D2C78-15FB-4F8D-822F-47BE41A21D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