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39880"/>
        <c:axId val="74518766"/>
      </c:barChart>
      <c:catAx>
        <c:axId val="12539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18766"/>
        <c:crosses val="autoZero"/>
        <c:auto val="1"/>
        <c:lblAlgn val="ctr"/>
        <c:lblOffset val="100"/>
        <c:noMultiLvlLbl val="0"/>
      </c:catAx>
      <c:valAx>
        <c:axId val="74518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39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D1D-981C-47FE-80D2-D5666C4F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B55-82E6-43D8-B600-EB416126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36D-B923-4210-AB7C-E9B2B753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457-40A9-4C49-B140-936DDDE2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F68-9D96-461A-97BB-25875B9D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147-C071-4E6B-91A2-E0FC743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F9B-0A94-4B76-AF7C-56D4C91B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AFD-BE33-4EF1-A0CF-6EB3ACF5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6C5-48D8-4BAB-9889-FF8559D3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1E8-FF10-468F-8505-5BC65260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94C-FC86-48E8-8EDC-F38BF8E1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21E-99CA-4054-9C59-56608834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FFDA4-BD70-45E9-B3F0-1A236D4CF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