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42172"/>
        <c:axId val="71182577"/>
      </c:barChart>
      <c:catAx>
        <c:axId val="14142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82577"/>
        <c:crosses val="autoZero"/>
        <c:auto val="1"/>
        <c:lblAlgn val="ctr"/>
        <c:lblOffset val="100"/>
        <c:noMultiLvlLbl val="0"/>
      </c:catAx>
      <c:valAx>
        <c:axId val="71182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42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E7F-C325-4D69-B818-7CFAC8B7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462-3588-46B3-A72D-EDB545D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B00-25D3-434B-B6F5-0CA34F23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290-D3B8-4112-AE81-69327E60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EEA-2ED7-48DF-8599-E4F7BA10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C49-36BF-4C99-A6EB-FFFD83E6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B74-DCC2-4C85-BF64-7EECF434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EBB-4FD7-4350-B703-FC2A2C67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616-5C37-433E-AE19-D06C988B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096-B11A-4713-B3C8-144D95F9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864-3516-4597-BDE2-07300422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141-AABB-4DA0-A43D-31BE763F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02079-4E66-49F5-9C18-3A88B1DCA3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