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08648"/>
        <c:axId val="55241659"/>
      </c:barChart>
      <c:catAx>
        <c:axId val="800086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41659"/>
        <c:crosses val="autoZero"/>
        <c:auto val="1"/>
        <c:lblAlgn val="ctr"/>
        <c:lblOffset val="100"/>
        <c:noMultiLvlLbl val="0"/>
      </c:catAx>
      <c:valAx>
        <c:axId val="55241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086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ED9-0277-4B1A-B464-91893F85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DCDA-991E-409D-A3FE-44155909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CA4-4281-4741-9FC0-92F8A65A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04F-45BB-4DD8-9CA2-095C3EFC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9512-7724-4DC3-9A8C-93C97765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93E9-9BE4-4FEE-8168-50BA26C9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BF3-A9DA-409F-9F19-73E63E81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730C-23FA-47A1-8117-B199E4A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8FB-DD25-44AC-9074-EA96FD4C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F38-9167-4E61-8492-3D52B649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309-D228-4A9E-82FF-A2464B6E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E541-F57A-4D8F-9FD8-6529F4BE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429B4-A3CC-4BBD-AF3C-3F4904553A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