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17914"/>
        <c:axId val="45492995"/>
      </c:barChart>
      <c:catAx>
        <c:axId val="16117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92995"/>
        <c:crosses val="autoZero"/>
        <c:auto val="1"/>
        <c:lblAlgn val="ctr"/>
        <c:lblOffset val="100"/>
        <c:noMultiLvlLbl val="0"/>
      </c:catAx>
      <c:valAx>
        <c:axId val="45492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17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39F-55CD-4F29-A7EF-33A249C7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9A8-86CA-4BB9-B063-12127393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21B-77EC-4135-BF87-0B261562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864-12B0-4577-BAA0-405C626A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5A8-0A81-4B23-B70B-832039EE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3B0-BFD0-4810-9F7D-AE27450E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E7D-DCFD-471D-ADA6-C91CAD50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938-95F1-4BD6-9994-8C0B3E71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96A-0075-4B71-A350-E34D288F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AE5-BCD1-4F94-8F91-34BAA86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BEC-B886-42AB-B8A7-36ACF670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D8A-A7CE-42BB-882E-809ECDF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E49E8-C749-4449-97D3-538F3BCC0C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