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89442"/>
        <c:axId val="3590070"/>
      </c:barChart>
      <c:catAx>
        <c:axId val="12089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0070"/>
        <c:crosses val="autoZero"/>
        <c:auto val="1"/>
        <c:lblAlgn val="ctr"/>
        <c:lblOffset val="100"/>
        <c:noMultiLvlLbl val="0"/>
      </c:catAx>
      <c:valAx>
        <c:axId val="3590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89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5A9-7038-4EB7-82A4-3964149F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3A3-A6BD-4B90-890B-031EED98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3D7-91C4-448B-8105-FF739B59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C17-0F04-4FB4-AF3D-D2C27BAB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4CE-0DAD-4D68-B307-EDC82391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C68-D594-416A-B9FC-89095E0A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BB7-73EB-4F6A-BE58-BD9E6B72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548-4325-48B5-9AD2-1BF088D0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6F7-3707-41F2-84FE-A3AA9B4F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A99-1048-479B-9321-189DE4E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124-E955-4710-9E24-EF4D44F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E3F-4CAA-4B30-A088-F9F73E18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DE137-9B1E-4502-8975-AA962BB2F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