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78990"/>
        <c:axId val="39833896"/>
      </c:barChart>
      <c:catAx>
        <c:axId val="23178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33896"/>
        <c:crosses val="autoZero"/>
        <c:auto val="1"/>
        <c:lblAlgn val="ctr"/>
        <c:lblOffset val="100"/>
        <c:noMultiLvlLbl val="0"/>
      </c:catAx>
      <c:valAx>
        <c:axId val="39833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78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CF3-A7F5-47CA-BC9E-558296C7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DF7-2BFF-40AF-BC61-0A86D5DD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C18-98C4-40C4-8D57-B9B232F7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08E-9950-4155-8E01-2CF26420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D60-24E9-4A7D-85B4-60318CE3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B64-98D4-4DF3-9C47-63E5EA04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0AA-28DF-487C-B685-F0B9627E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97E-2195-43D8-BAA9-B3C5DCDF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937-5506-40C9-9535-02BE14A2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602-3135-4265-93EA-62C25884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EE7-D851-4050-A4AC-B0FF556C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239-7335-4574-9265-24B932AA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03D41-6A13-4A73-BB26-E2E9239DAA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