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50963"/>
        <c:axId val="46085309"/>
      </c:barChart>
      <c:catAx>
        <c:axId val="751509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85309"/>
        <c:crosses val="autoZero"/>
        <c:auto val="1"/>
        <c:lblAlgn val="ctr"/>
        <c:lblOffset val="100"/>
        <c:noMultiLvlLbl val="0"/>
      </c:catAx>
      <c:valAx>
        <c:axId val="46085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509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8D2-D142-4A00-8086-7FFC5966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8360-B32C-4A07-97E6-4FD8603F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B34F-B5B2-4394-AFB6-81510BD1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731-0553-48EE-970D-DC6FB257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8EB-2BA3-4A29-8BA5-807F2142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17B-ED72-405F-B43E-C0FA2442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E74-23B5-42F4-8A0C-16B24869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FC3-7636-408E-9D3F-3BC84A83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E85-D606-4846-A7B0-2E89965D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02D-4D4E-46A4-A433-6029A453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AC67-B4F9-4C83-AB69-B16EE87B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F07-107E-4449-8A6A-2B3B8125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A39B8-11B3-48BD-A834-BBE449BC22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