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862270"/>
        <c:axId val="80162538"/>
      </c:barChart>
      <c:catAx>
        <c:axId val="928622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62538"/>
        <c:crosses val="autoZero"/>
        <c:auto val="1"/>
        <c:lblAlgn val="ctr"/>
        <c:lblOffset val="100"/>
        <c:noMultiLvlLbl val="0"/>
      </c:catAx>
      <c:valAx>
        <c:axId val="801625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622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F98B-C512-4C43-ACC9-7E20859A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8E67-B084-456F-BD79-A0127E19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09F0-CB76-48FA-94A3-0830635C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EAEA-F02D-4EEF-B41D-68C42869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813-C36A-4931-ABE0-82823E3F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2696-56FA-45B4-A650-F441AD2C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3565-2B1F-401E-A06D-461631DD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2257-8D1D-40B3-9403-9A22DDC4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ECFB-99AE-40C9-9E15-69ABF3AC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881F-7872-4626-B9CF-6BAF9EE3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D8F0-4C9F-413A-A6BF-3E8CCE70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0FEB-82F5-461D-9B20-535F4477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98C2E-95BD-483F-A101-1AD5C07003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