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34439"/>
        <c:axId val="53889552"/>
      </c:barChart>
      <c:catAx>
        <c:axId val="36534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89552"/>
        <c:crosses val="autoZero"/>
        <c:auto val="1"/>
        <c:lblAlgn val="ctr"/>
        <c:lblOffset val="100"/>
        <c:noMultiLvlLbl val="0"/>
      </c:catAx>
      <c:valAx>
        <c:axId val="53889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34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769-A898-4FDF-95B9-DDA3A387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CEB-BF32-4492-97FB-60965175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66E-94DB-4A7C-89A4-6B657843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F85-3716-4183-82F4-34BD6F0B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EF3-C0B2-49D0-9473-29383B8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256-4D91-4C76-9D95-7D234408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C45-A42B-4317-A723-4DDDED1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5AE-2919-4633-8AC3-C6F3ACA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242-1FAD-43D6-B4BE-41DAE7E9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9B9-2F46-49D5-B03F-045A7CC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E65-3153-4EB6-9126-32FEB2E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3F9-DA6A-4F2E-BD7E-7CA683AB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AE76-35AF-45DA-86FE-B6758AB37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