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9595"/>
        <c:axId val="82142790"/>
      </c:barChart>
      <c:catAx>
        <c:axId val="349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2790"/>
        <c:crosses val="autoZero"/>
        <c:auto val="1"/>
        <c:lblAlgn val="ctr"/>
        <c:lblOffset val="100"/>
        <c:noMultiLvlLbl val="0"/>
      </c:catAx>
      <c:valAx>
        <c:axId val="82142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A25-755A-413D-AD5F-D35975F2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8ED-F5E1-4F72-BAFF-D0920F0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C1B-54D8-4247-8130-C6C074F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90F-B5BF-4C18-88C6-066AF2A1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230-1D04-4A3B-B197-29B4EDE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5C8-DDC3-4BD3-A9D3-C4D1C74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D33-4F86-4022-83CD-C8EA0BF4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5CB-1DC7-413C-9F38-7684534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B1A-960B-4851-9672-130904BF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933-E8E4-4FDE-AB98-30FD202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154-A794-42C3-99C6-419C142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1C0-D0ED-4008-A1A1-058C704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26DFB-06F2-46CD-943C-87EFFCA16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