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77565"/>
        <c:axId val="36627138"/>
      </c:barChart>
      <c:catAx>
        <c:axId val="81377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27138"/>
        <c:crosses val="autoZero"/>
        <c:auto val="1"/>
        <c:lblAlgn val="ctr"/>
        <c:lblOffset val="100"/>
        <c:noMultiLvlLbl val="0"/>
      </c:catAx>
      <c:valAx>
        <c:axId val="36627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77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491-7CA2-4A1A-B70C-98E56B45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E60-90BB-45FA-A680-920BEB61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4D1-6FC3-4B05-BF72-029F57F9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978-25FC-412C-9938-77BEB900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97C-764D-45D3-A023-2B3516BC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E1B-DDE9-4000-9878-240470A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DC9-66A2-4916-96A8-87C4986D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81B-B35E-4CBF-9A97-87472D3F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3C3-B40E-4A14-8D13-46C161D8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1AA-BAE0-4162-B8D7-BE2DAE1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59F-96EF-4933-AE45-EA6CA19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EC0-A4E5-4E59-867B-CCA4D19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44088-705B-4DFA-9E3D-996912229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