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91062"/>
        <c:axId val="81918336"/>
      </c:barChart>
      <c:catAx>
        <c:axId val="20491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18336"/>
        <c:crosses val="autoZero"/>
        <c:auto val="1"/>
        <c:lblAlgn val="ctr"/>
        <c:lblOffset val="100"/>
        <c:noMultiLvlLbl val="0"/>
      </c:catAx>
      <c:valAx>
        <c:axId val="81918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91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601-0E0B-4E0E-B5C8-09EF0640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CA3-153C-466B-9BEC-F14A0FDE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570-8E12-4BD9-8630-AA8B0434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CDF-73C7-4B4E-B37D-6DD33CBB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6C9-8A85-4D10-BAC7-EE266066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C40-716D-4835-8F7E-0F02F3EA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DA0-641C-4125-8F47-E78E880F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BAB-4F89-4F42-9CA4-12EEC998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9AB-C4DE-43A8-95FF-E0AE7AEA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8DF-3368-481C-BFF1-64F35E18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B91-987E-45BA-B9D5-A87014D1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F9C-46D6-4B54-BC7A-CC514DDB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B6137-527F-4587-BCDB-D98B0FC82A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