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961971"/>
        <c:axId val="11581484"/>
      </c:barChart>
      <c:catAx>
        <c:axId val="299619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81484"/>
        <c:crosses val="autoZero"/>
        <c:auto val="1"/>
        <c:lblAlgn val="ctr"/>
        <c:lblOffset val="100"/>
        <c:noMultiLvlLbl val="0"/>
      </c:catAx>
      <c:valAx>
        <c:axId val="115814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619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D98D-5169-4B66-8259-D2B818F2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1556-FC54-4F60-B1B6-5C4CC81C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C227-A7F2-447D-9C25-1F4B0297A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2D3B-E433-47A9-A83A-D9F4355B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0387-7F64-4D65-B63F-F8F15BAB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8843-BA5E-4C5B-961C-E060B652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29A6-8B19-473A-BEB3-5D567B5D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B8A8-62F1-4A85-91A1-A5539CD3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DACE-7283-4708-95D5-37C823CD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2BC5-21D2-41DB-866F-7E4054A2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03CA-1A72-4864-86B3-8F2E5AB6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06B7-0412-45C7-B18E-52482B36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3076E-5F1F-469A-84E7-19E9483274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