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1650"/>
        <c:axId val="81044814"/>
      </c:barChart>
      <c:catAx>
        <c:axId val="7591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4814"/>
        <c:crosses val="autoZero"/>
        <c:auto val="1"/>
        <c:lblAlgn val="ctr"/>
        <c:lblOffset val="100"/>
        <c:noMultiLvlLbl val="0"/>
      </c:catAx>
      <c:valAx>
        <c:axId val="8104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428-B8A7-4B6E-9653-06A043F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704-028A-460E-A8F8-450F15E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B30-7C34-42DF-99D2-3BA452D5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EAE-6B1D-4ADC-BF85-F2C370A2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D83-3484-40E1-9783-3776D08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6D5-C045-4342-8F4E-9E385D1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3E6-F37C-4E8B-A304-F0F06DB7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6BD-671C-49E6-8C24-3563BD9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B80-7D78-4521-BC49-5A6C1F5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CE4-D056-4741-B861-7C532B06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48B-9A49-418E-8818-01EB5BB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E02-3DD7-4B25-B246-ED0043C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E08A1-5BFC-408F-990D-A3B1EF1EA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