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3367"/>
        <c:axId val="88219123"/>
      </c:barChart>
      <c:catAx>
        <c:axId val="8623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19123"/>
        <c:crosses val="autoZero"/>
        <c:auto val="1"/>
        <c:lblAlgn val="ctr"/>
        <c:lblOffset val="100"/>
        <c:noMultiLvlLbl val="0"/>
      </c:catAx>
      <c:valAx>
        <c:axId val="88219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3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40B-E72C-423A-8C09-B3C78CCE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A0B-B298-4D81-899C-2BD2B5AD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054-7E32-47EB-AA10-75CB0519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38D-2D8B-499A-A783-0FD9EF42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604-4D93-411B-A6C0-7A5BC11E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1D3-1F79-4475-BE58-9480DA09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0C4-17B4-4C3A-9DEF-BA5BDCA0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D4A-9DFD-4F82-A815-6688EBEA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25C-2C89-4B7E-AD23-48D65F9B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EA3-C6BB-406C-9830-FC77C7E5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F1B-947F-4D9D-9FCC-1BAB5ED8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D7C-6A85-49A4-9760-642BA524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EED21-1D34-4AA7-A162-FEC6D0C16B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