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68200"/>
        <c:axId val="9390421"/>
      </c:barChart>
      <c:catAx>
        <c:axId val="34268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0421"/>
        <c:crosses val="autoZero"/>
        <c:auto val="1"/>
        <c:lblAlgn val="ctr"/>
        <c:lblOffset val="100"/>
        <c:noMultiLvlLbl val="0"/>
      </c:catAx>
      <c:valAx>
        <c:axId val="9390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68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C1C-4581-48DA-A0A8-6DCF9178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148-1431-44D9-8906-7C568AF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D17-ED55-46FE-94C2-A4B96F1D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7C0-B814-4D05-AEE8-DA187B8A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337-6EBA-43FB-9F8F-B8062E0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791-0942-47F0-A09B-422C5CE6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0E9-E083-43F4-8B74-B74599E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079-45B2-41C0-85D9-4A67008B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522-D3BE-4CDE-9F61-E96B7AED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19A-6D65-46F4-81D9-882B978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5B0-BBA3-4DB9-AED4-919C3E7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0D4-8DE4-4A3C-B34E-406B702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C075D-212E-4790-A3A1-6156564999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