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56669"/>
        <c:axId val="70859236"/>
      </c:barChart>
      <c:catAx>
        <c:axId val="17956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59236"/>
        <c:crosses val="autoZero"/>
        <c:auto val="1"/>
        <c:lblAlgn val="ctr"/>
        <c:lblOffset val="100"/>
        <c:noMultiLvlLbl val="0"/>
      </c:catAx>
      <c:valAx>
        <c:axId val="708592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56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E816-B11E-4882-A1DD-DE5673C3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8D4-2C8F-443A-8E82-D24365D8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AB4-00A6-4F7C-81D2-985D4D2F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195-7E1D-40BD-9403-E3B98653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9A3-D2FA-4414-A450-095DD6C2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1AE-CDE9-48FF-BF24-465B4CDF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9BB-0A08-4B0E-BD70-76039984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9A0-77DE-44E5-8407-5A4B2D8A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2FE-ACAA-4ED6-BECE-6AB1FAF9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4426-6F89-4517-B567-F47758B1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757-7B3C-4C42-988E-A906A346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FAE-D023-4F4C-AA1F-A05F3B33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3F0BA-3637-4480-89CB-5B8D666B5B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