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890502"/>
        <c:axId val="46764172"/>
      </c:barChart>
      <c:catAx>
        <c:axId val="838905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64172"/>
        <c:crosses val="autoZero"/>
        <c:auto val="1"/>
        <c:lblAlgn val="ctr"/>
        <c:lblOffset val="100"/>
        <c:noMultiLvlLbl val="0"/>
      </c:catAx>
      <c:valAx>
        <c:axId val="467641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905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5DBB-733B-46D9-846C-78A8A80E0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0D5C-959A-41D0-AF5E-D5637306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3BB3-D8B4-4663-8BB0-FA799004D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7DDE-D9C0-452F-A404-DFC80EBB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57BF-8649-4055-8C74-AC91DE37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858E-3C1C-4424-A9EC-2054811A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EE23-C7D2-49FD-A384-1B58D372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66EF-7DB9-4406-A187-606A3720F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1F9E-EBBF-4EA9-8BBE-7726DAAB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8B87-168A-44FC-8082-8E6BF4C0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E7CF-90F7-4151-A4D0-3DCB0759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7B6-7488-4D46-A2EF-769FC477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712DA-AA7E-4898-97A2-A0DDE9EE8B3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