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59082"/>
        <c:axId val="41474327"/>
      </c:barChart>
      <c:catAx>
        <c:axId val="16259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74327"/>
        <c:crosses val="autoZero"/>
        <c:auto val="1"/>
        <c:lblAlgn val="ctr"/>
        <c:lblOffset val="100"/>
        <c:noMultiLvlLbl val="0"/>
      </c:catAx>
      <c:valAx>
        <c:axId val="41474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59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767-B440-4FA8-BA31-432CF7EB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4D5-BFD4-4F9B-BF7B-B08CCDDB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B86-C216-42D9-BC54-EA77D041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745-DA75-4636-97D7-AC714CF4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D1B-D34A-40D4-9355-1C18FF4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394-1B8A-4953-BBA2-B952F63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9FE-EA27-4A70-AC98-BC8E7B48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BAE-578B-459C-A4A7-01436A8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EC5-B1D4-4665-9CBC-1CC5612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EC0-A7C7-4974-B3A6-CB48FB0B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2FF-66AE-4724-91A0-6294FBE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0BD-61E6-4AFA-B59D-6FAE60E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3CCB3-AD78-4438-8905-BF473E1A4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