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18804"/>
        <c:axId val="84863471"/>
      </c:barChart>
      <c:catAx>
        <c:axId val="86018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63471"/>
        <c:crosses val="autoZero"/>
        <c:auto val="1"/>
        <c:lblAlgn val="ctr"/>
        <c:lblOffset val="100"/>
        <c:noMultiLvlLbl val="0"/>
      </c:catAx>
      <c:valAx>
        <c:axId val="84863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18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8F4-CDCE-43B3-B5DD-39927015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446-1500-4286-A460-DE66743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564-BF1A-439B-9B55-652F3D96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C41-CE13-40C9-B7AD-D6E2D37F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56A-2F76-4DB1-846F-A3813D1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805-A3C8-4FC7-8112-DD538C4D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2B1-1222-481B-8244-4421BA12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7C1-1B7D-407B-9F15-135AE6E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E85-AFA7-4CB9-87A7-1B4B6E3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7AB-1CE3-42CA-93FA-7B7F9E4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519-2038-4767-999B-3849A698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8C5-3111-411C-B4FD-24321F6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8F227-FE71-40A6-9194-5DC3EEB02C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