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35080"/>
        <c:axId val="83859222"/>
      </c:barChart>
      <c:catAx>
        <c:axId val="561350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59222"/>
        <c:crosses val="autoZero"/>
        <c:auto val="1"/>
        <c:lblAlgn val="ctr"/>
        <c:lblOffset val="100"/>
        <c:noMultiLvlLbl val="0"/>
      </c:catAx>
      <c:valAx>
        <c:axId val="83859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350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7EA-85A8-46C5-9BFC-6FC120397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DA7-9412-4657-BE85-A1FE3AEE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7FA3-30E6-4093-ADC7-CB13C32A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36FB-CCD4-4FC2-8FA6-2CC67469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891-85D6-444C-91DB-73FDF2AB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A44-3DE3-4094-AD67-145B28E5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0D1-A028-4B03-88B0-570D5B2C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0514-51C1-4A08-82A1-FB5C5D6E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8AD-81B8-44C2-BB58-1E72F36A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771-3828-45AC-8225-DD50E002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F37-A259-41F3-A144-DB4D9975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AF16-C28B-416A-BCA4-A66F6723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38B84-587F-49D5-91C8-15EC00D397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