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72892"/>
        <c:axId val="24952979"/>
      </c:barChart>
      <c:catAx>
        <c:axId val="97072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52979"/>
        <c:crosses val="autoZero"/>
        <c:auto val="1"/>
        <c:lblAlgn val="ctr"/>
        <c:lblOffset val="100"/>
        <c:noMultiLvlLbl val="0"/>
      </c:catAx>
      <c:valAx>
        <c:axId val="24952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72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424-1DD3-45C8-A052-77F82E16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D32-2B80-4B8C-8205-3B51BB20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6EA-8189-43CE-A875-99A479C1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3F4-2981-4902-A135-7D4C96BC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949-3EC9-4B91-B485-D9F1C95C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C30-9C9F-47E2-A9F9-F9EED171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8C5-0692-4EDA-A71B-9B5C50E8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3BF-9BB6-4DAB-828F-B00CA112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7BC-F4AE-47B2-9093-9A9FE304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318-4618-4310-A1E0-1D1255A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CB6-E284-4142-A1BE-A744B56C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734-40ED-42C6-B9D4-9585EF6A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704A4-AA08-4CEA-869E-1077B338CB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