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79133"/>
        <c:axId val="59315585"/>
      </c:barChart>
      <c:catAx>
        <c:axId val="48779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15585"/>
        <c:crosses val="autoZero"/>
        <c:auto val="1"/>
        <c:lblAlgn val="ctr"/>
        <c:lblOffset val="100"/>
        <c:noMultiLvlLbl val="0"/>
      </c:catAx>
      <c:valAx>
        <c:axId val="59315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79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A4C-96C1-4350-9FD8-B51412A3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0A7-F7F9-4144-B0D8-374709A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D7B-2593-4E5C-8544-97C4031E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27A-F3D4-4F3B-AFBB-98A6AC4B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CFA-8A17-46FD-8082-ECF42A7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1C5-53F9-4715-ADC5-9BC1FB28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8A5-A193-4417-B7AE-F3B16D33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9E8-E99B-4695-A0FC-827553CD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F95-73AA-4EA6-B1F3-251FB27D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9A6-DFD5-46A7-804E-0E97E63B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4C7-FAD5-4C5F-8F1B-CC166520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1F6-4EBD-426E-B114-F2857EBC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EDCDD-53CD-42D7-9634-3A3A3C4CF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