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342055"/>
        <c:axId val="56416131"/>
      </c:barChart>
      <c:catAx>
        <c:axId val="233420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416131"/>
        <c:crosses val="autoZero"/>
        <c:auto val="1"/>
        <c:lblAlgn val="ctr"/>
        <c:lblOffset val="100"/>
        <c:noMultiLvlLbl val="0"/>
      </c:catAx>
      <c:valAx>
        <c:axId val="564161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3420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A6D1-29B2-4EE9-950A-052A48891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0BBE-70CC-49BC-9D4A-54F52782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E4E3-EC11-4DA3-A85F-F136D1E93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E3C9-75F0-4728-A312-7D003E60E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5B29-3149-4C98-B847-C7B76005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011C-4686-464F-8CA1-0C910B68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7935-DA14-46AC-8848-A97C98C4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8093-DB52-4F74-B53D-4DC18C17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9EFF-E96A-4EBC-B80F-1C645F44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6A5E-F907-4266-B270-D3164116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F91A-66B0-4D1C-8B15-164E6095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B01A-2A87-40BC-A665-5EB4DF60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5A4F9-2EF3-4623-BB7C-81F5D52183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