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60532"/>
        <c:axId val="91856806"/>
      </c:barChart>
      <c:catAx>
        <c:axId val="69460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56806"/>
        <c:crosses val="autoZero"/>
        <c:auto val="1"/>
        <c:lblAlgn val="ctr"/>
        <c:lblOffset val="100"/>
        <c:noMultiLvlLbl val="0"/>
      </c:catAx>
      <c:valAx>
        <c:axId val="91856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60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063-6A35-4C6C-B5DA-46317BB7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34E-1BE3-4F48-ADB2-8261EE83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35D-4103-4846-910E-943420DC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9E0-D960-446C-87EF-7CD4C7FA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31B-1AFF-4478-A332-A6F0B62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DF0-DB00-43B7-A1E5-33A495EB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30F-AF68-4A18-AC82-D83AC90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B70-740E-47AF-B23F-2344622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CEE-759F-4EC6-B75D-BCBCAAD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CB9-5900-4ACB-8F14-B74B167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CA1-4DF7-4953-B2A7-7B411651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AEB-F198-4EE7-B79E-DF9B899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3DDD-5EC5-4983-AF34-B0702ECCD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