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7921"/>
        <c:axId val="5571043"/>
      </c:barChart>
      <c:catAx>
        <c:axId val="8417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043"/>
        <c:crosses val="autoZero"/>
        <c:auto val="1"/>
        <c:lblAlgn val="ctr"/>
        <c:lblOffset val="100"/>
        <c:noMultiLvlLbl val="0"/>
      </c:catAx>
      <c:valAx>
        <c:axId val="5571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7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CB4-94C8-4477-B00E-643D914D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055-A07A-47C6-A4BC-D206F87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994-A74C-4DA5-B810-9D282E51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807-366B-4E32-94A2-1077B18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6CF-ABA5-492C-803C-211E8545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9A3-9CE7-4F50-81A1-FA095D0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0E3-1493-45AC-9E52-EF439C25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17F-52DB-4E40-99EB-5365330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B05-4990-471D-A905-5A9604CD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97B-DF3D-4DC2-B72D-239EEA5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627-A5A2-4DA3-8F23-490D70E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1A9-B3EE-4261-ACCD-6A61F620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F4066-F770-42BB-8E0B-033DADB496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